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D9972-D448-4A67-BC6A-DD4B2207BF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B54E4-0A50-4EB6-9074-F8C093ECC74D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06EB7-4877-4C9E-9419-43C0100155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83A09-5A75-485F-BA21-3C5425E862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AA8FA-3070-4C44-9554-7750F9F0F7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0626C-8B1A-4F8B-8806-204B4D8B05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D6E4D-9998-4EDF-82FC-32791BB52D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211E3-71C2-4E72-80FA-A2309C3E6A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C3AB1-0803-4CFE-B998-1B2EBFF038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56782-18AF-4A2F-BC2E-9BEB133077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1E1BE-6F31-4F02-A2B5-987C5BC61A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C8306-17AB-476E-983B-469B0DCA1A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C291B-DE86-46C2-A11F-9473CBCE4B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492C5-931A-4DFE-85A4-CAB4F28FDA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bama.ua.edu/~jhartman" TargetMode="Externa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4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EEBFC-5021-4262-B512-079ECF54C2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AutoShape 9">
            <a:hlinkClick r:id="rId2"/>
          </p:cNvPr>
          <p:cNvSpPr/>
          <p:nvPr/>
        </p:nvSpPr>
        <p:spPr>
          <a:xfrm>
            <a:off x="685800" y="6400800"/>
            <a:ext cx="2895480" cy="304920"/>
          </a:xfrm>
          <a:custGeom>
            <a:avLst/>
            <a:gdLst>
              <a:gd name="textAreaLeft" fmla="*/ 19440 w 2895480"/>
              <a:gd name="textAreaRight" fmla="*/ 2876040 w 2895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04894" h="21600">
                <a:moveTo>
                  <a:pt x="0" y="0"/>
                </a:moveTo>
                <a:lnTo>
                  <a:pt x="204894" y="0"/>
                </a:lnTo>
                <a:lnTo>
                  <a:pt x="204894" y="21600"/>
                </a:lnTo>
                <a:lnTo>
                  <a:pt x="0" y="21600"/>
                </a:lnTo>
                <a:close/>
              </a:path>
              <a:path fill="lightenLess" w="204894" h="21600">
                <a:moveTo>
                  <a:pt x="0" y="0"/>
                </a:moveTo>
                <a:lnTo>
                  <a:pt x="204894" y="0"/>
                </a:lnTo>
                <a:lnTo>
                  <a:pt x="203494" y="1400"/>
                </a:lnTo>
                <a:lnTo>
                  <a:pt x="1400" y="1400"/>
                </a:lnTo>
                <a:close/>
              </a:path>
              <a:path fill="darken" w="204894" h="21600">
                <a:moveTo>
                  <a:pt x="204894" y="0"/>
                </a:moveTo>
                <a:lnTo>
                  <a:pt x="204894" y="21600"/>
                </a:lnTo>
                <a:lnTo>
                  <a:pt x="203494" y="20200"/>
                </a:lnTo>
                <a:lnTo>
                  <a:pt x="203494" y="1400"/>
                </a:lnTo>
                <a:close/>
              </a:path>
              <a:path fill="darkenLess" w="204894" h="21600">
                <a:moveTo>
                  <a:pt x="2048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494" y="20200"/>
                </a:lnTo>
                <a:close/>
              </a:path>
              <a:path fill="lighten" w="2048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AutoShape 10"/>
          <p:cNvSpPr/>
          <p:nvPr/>
        </p:nvSpPr>
        <p:spPr>
          <a:xfrm>
            <a:off x="304920" y="64008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noFill/>
          <a:ln w="6480">
            <a:solidFill>
              <a:srgbClr val="ead7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8BF46-CAC6-4AE3-88B1-FEBF73B0A5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5840" y="609120"/>
            <a:ext cx="7313760" cy="8384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d7f5"/>
                </a:solidFill>
                <a:latin typeface="Tahoma"/>
              </a:rPr>
              <a:t>An Interactive Tutorial for SPSS 10.0 for Windows</a:t>
            </a:r>
            <a:r>
              <a:rPr b="0" lang="en-US" sz="2400" spc="-1" strike="noStrike" baseline="30000">
                <a:solidFill>
                  <a:srgbClr val="ead7f5"/>
                </a:solidFill>
                <a:latin typeface="Tahoma"/>
              </a:rPr>
              <a:t>©</a:t>
            </a:r>
            <a:endParaRPr b="0" lang="en-US" sz="24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2819520" y="4343400"/>
            <a:ext cx="3504960" cy="91440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Tahoma"/>
              </a:rPr>
              <a:t>by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Tahoma"/>
              </a:rPr>
              <a:t>Julia Hartman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Rectangle 14"/>
          <p:cNvSpPr/>
          <p:nvPr/>
        </p:nvSpPr>
        <p:spPr>
          <a:xfrm>
            <a:off x="914400" y="2133720"/>
            <a:ext cx="7313760" cy="144756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Times New Roman"/>
              </a:rPr>
              <a:t>Creating Scatterplot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7951680" y="5943600"/>
            <a:ext cx="60984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AutoShape 19">
            <a:hlinkClick r:id="" action="ppaction://hlinkshowjump?jump=nextslide"/>
          </p:cNvPr>
          <p:cNvSpPr/>
          <p:nvPr/>
        </p:nvSpPr>
        <p:spPr>
          <a:xfrm>
            <a:off x="7924680" y="58672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5EAAC-206B-4EAC-B80A-C5F8CDC7A6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8" name="Picture 17" descr="C:\BCT 689\PowerPoint\spss gifs\scatterplot\menu3b.gif"/>
          <p:cNvPicPr/>
          <p:nvPr/>
        </p:nvPicPr>
        <p:blipFill>
          <a:blip r:embed="rId1"/>
          <a:stretch/>
        </p:blipFill>
        <p:spPr>
          <a:xfrm>
            <a:off x="611280" y="2192400"/>
            <a:ext cx="4113000" cy="36590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Scatterplots: </a:t>
            </a:r>
            <a:br>
              <a:rPr sz="4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Selecting Variable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10" name="AutoShape 4">
            <a:hlinkClick r:id="" action="ppaction://hlinkshowjump?jump=nextslide"/>
          </p:cNvPr>
          <p:cNvSpPr/>
          <p:nvPr/>
        </p:nvSpPr>
        <p:spPr>
          <a:xfrm>
            <a:off x="685800" y="2819520"/>
            <a:ext cx="1447920" cy="304560"/>
          </a:xfrm>
          <a:custGeom>
            <a:avLst/>
            <a:gdLst>
              <a:gd name="textAreaLeft" fmla="*/ 19440 w 1447920"/>
              <a:gd name="textAreaRight" fmla="*/ 1428480 w 1447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102594" h="21600">
                <a:moveTo>
                  <a:pt x="0" y="0"/>
                </a:moveTo>
                <a:lnTo>
                  <a:pt x="102594" y="0"/>
                </a:lnTo>
                <a:lnTo>
                  <a:pt x="102594" y="21600"/>
                </a:lnTo>
                <a:lnTo>
                  <a:pt x="0" y="21600"/>
                </a:lnTo>
                <a:close/>
              </a:path>
              <a:path fill="lightenLess" w="102594" h="21600">
                <a:moveTo>
                  <a:pt x="0" y="0"/>
                </a:moveTo>
                <a:lnTo>
                  <a:pt x="102594" y="0"/>
                </a:lnTo>
                <a:lnTo>
                  <a:pt x="101194" y="1400"/>
                </a:lnTo>
                <a:lnTo>
                  <a:pt x="1400" y="1400"/>
                </a:lnTo>
                <a:close/>
              </a:path>
              <a:path fill="darken" w="102594" h="21600">
                <a:moveTo>
                  <a:pt x="102594" y="0"/>
                </a:moveTo>
                <a:lnTo>
                  <a:pt x="102594" y="21600"/>
                </a:lnTo>
                <a:lnTo>
                  <a:pt x="101194" y="20200"/>
                </a:lnTo>
                <a:lnTo>
                  <a:pt x="101194" y="1400"/>
                </a:lnTo>
                <a:close/>
              </a:path>
              <a:path fill="darkenLess" w="102594" h="21600">
                <a:moveTo>
                  <a:pt x="102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194" y="20200"/>
                </a:lnTo>
                <a:close/>
              </a:path>
              <a:path fill="lighten" w="102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Text Box 14"/>
          <p:cNvSpPr/>
          <p:nvPr/>
        </p:nvSpPr>
        <p:spPr>
          <a:xfrm>
            <a:off x="5027760" y="2284560"/>
            <a:ext cx="320328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croll down the variable list, 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oint to the variable labeled</a:t>
            </a:r>
            <a:br>
              <a:rPr sz="2800"/>
            </a:b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UNDERGRAD GPA TOTAL - CUMULATIV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D988D-569D-464D-9B20-7755C56D0B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4" name="Picture 9" descr="C:\BCT 689\PowerPoint\spss gifs\scatterplot\plot4.gif"/>
          <p:cNvPicPr/>
          <p:nvPr/>
        </p:nvPicPr>
        <p:blipFill>
          <a:blip r:embed="rId1"/>
          <a:stretch/>
        </p:blipFill>
        <p:spPr>
          <a:xfrm>
            <a:off x="611280" y="2192400"/>
            <a:ext cx="4113000" cy="36972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Scatterplots: </a:t>
            </a:r>
            <a:br>
              <a:rPr sz="4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Selecting Variable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16" name="AutoShape 4">
            <a:hlinkClick r:id="" action="ppaction://hlinkshowjump?jump=nextslide"/>
          </p:cNvPr>
          <p:cNvSpPr/>
          <p:nvPr/>
        </p:nvSpPr>
        <p:spPr>
          <a:xfrm>
            <a:off x="762120" y="2819520"/>
            <a:ext cx="1143000" cy="304560"/>
          </a:xfrm>
          <a:custGeom>
            <a:avLst/>
            <a:gdLst>
              <a:gd name="textAreaLeft" fmla="*/ 19440 w 1143000"/>
              <a:gd name="textAreaRight" fmla="*/ 1123560 w 11430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80994" h="21600">
                <a:moveTo>
                  <a:pt x="0" y="0"/>
                </a:moveTo>
                <a:lnTo>
                  <a:pt x="80994" y="0"/>
                </a:lnTo>
                <a:lnTo>
                  <a:pt x="80994" y="21600"/>
                </a:lnTo>
                <a:lnTo>
                  <a:pt x="0" y="21600"/>
                </a:lnTo>
                <a:close/>
              </a:path>
              <a:path fill="lightenLess" w="80994" h="21600">
                <a:moveTo>
                  <a:pt x="0" y="0"/>
                </a:moveTo>
                <a:lnTo>
                  <a:pt x="80994" y="0"/>
                </a:lnTo>
                <a:lnTo>
                  <a:pt x="79594" y="1400"/>
                </a:lnTo>
                <a:lnTo>
                  <a:pt x="1400" y="1400"/>
                </a:lnTo>
                <a:close/>
              </a:path>
              <a:path fill="darken" w="80994" h="21600">
                <a:moveTo>
                  <a:pt x="80994" y="0"/>
                </a:moveTo>
                <a:lnTo>
                  <a:pt x="80994" y="21600"/>
                </a:lnTo>
                <a:lnTo>
                  <a:pt x="79594" y="20200"/>
                </a:lnTo>
                <a:lnTo>
                  <a:pt x="79594" y="1400"/>
                </a:lnTo>
                <a:close/>
              </a:path>
              <a:path fill="darkenLess" w="80994" h="21600">
                <a:moveTo>
                  <a:pt x="80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594" y="20200"/>
                </a:lnTo>
                <a:close/>
              </a:path>
              <a:path fill="lighten" w="80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6172200" y="460224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nd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click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5027760" y="2284560"/>
            <a:ext cx="320328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croll down the variable list, 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oint to the variable labeled</a:t>
            </a:r>
            <a:br>
              <a:rPr sz="2800"/>
            </a:b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UNDERGRAD GPA TOTAL - CUMULATIV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B880C-8AF7-4933-9D07-740AF4B2D9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1" name="Picture 10" descr="C:\BCT 689\PowerPoint\spss gifs\scatterplot\plot5.gif"/>
          <p:cNvPicPr/>
          <p:nvPr/>
        </p:nvPicPr>
        <p:blipFill>
          <a:blip r:embed="rId1"/>
          <a:stretch/>
        </p:blipFill>
        <p:spPr>
          <a:xfrm>
            <a:off x="611280" y="2192400"/>
            <a:ext cx="4113000" cy="37083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Scatterplots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Selecting Variable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5027760" y="2284560"/>
            <a:ext cx="3429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ove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totcum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to the 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ox labeled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X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 Axis: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y clicking the arrow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AutoShape 7">
            <a:hlinkClick r:id="" action="ppaction://hlinkshowjump?jump=nextslide"/>
          </p:cNvPr>
          <p:cNvSpPr/>
          <p:nvPr/>
        </p:nvSpPr>
        <p:spPr>
          <a:xfrm>
            <a:off x="2209680" y="307332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FD5C4-BD4F-450E-822F-9EA85209D6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7" name="Picture 18" descr="C:\BCT 689\PowerPoint\spss gifs\scatterplot\plot6.gif"/>
          <p:cNvPicPr/>
          <p:nvPr/>
        </p:nvPicPr>
        <p:blipFill>
          <a:blip r:embed="rId1"/>
          <a:stretch/>
        </p:blipFill>
        <p:spPr>
          <a:xfrm>
            <a:off x="611280" y="2192400"/>
            <a:ext cx="4113000" cy="36972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Scatterplots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Selecting Variable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29" name="AutoShape 11">
            <a:hlinkClick r:id="" action="ppaction://hlinkshowjump?jump=nextslide"/>
          </p:cNvPr>
          <p:cNvSpPr/>
          <p:nvPr/>
        </p:nvSpPr>
        <p:spPr>
          <a:xfrm>
            <a:off x="774720" y="3174840"/>
            <a:ext cx="1219320" cy="304920"/>
          </a:xfrm>
          <a:custGeom>
            <a:avLst/>
            <a:gdLst>
              <a:gd name="textAreaLeft" fmla="*/ 19440 w 1219320"/>
              <a:gd name="textAreaRight" fmla="*/ 1199880 w 12193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86298" h="21600">
                <a:moveTo>
                  <a:pt x="0" y="0"/>
                </a:moveTo>
                <a:lnTo>
                  <a:pt x="86298" y="0"/>
                </a:lnTo>
                <a:lnTo>
                  <a:pt x="86298" y="21600"/>
                </a:lnTo>
                <a:lnTo>
                  <a:pt x="0" y="21600"/>
                </a:lnTo>
                <a:close/>
              </a:path>
              <a:path fill="lightenLess" w="86298" h="21600">
                <a:moveTo>
                  <a:pt x="0" y="0"/>
                </a:moveTo>
                <a:lnTo>
                  <a:pt x="86298" y="0"/>
                </a:lnTo>
                <a:lnTo>
                  <a:pt x="84898" y="1400"/>
                </a:lnTo>
                <a:lnTo>
                  <a:pt x="1400" y="1400"/>
                </a:lnTo>
                <a:close/>
              </a:path>
              <a:path fill="darken" w="86298" h="21600">
                <a:moveTo>
                  <a:pt x="86298" y="0"/>
                </a:moveTo>
                <a:lnTo>
                  <a:pt x="86298" y="21600"/>
                </a:lnTo>
                <a:lnTo>
                  <a:pt x="84898" y="20200"/>
                </a:lnTo>
                <a:lnTo>
                  <a:pt x="84898" y="1400"/>
                </a:lnTo>
                <a:close/>
              </a:path>
              <a:path fill="darkenLess" w="86298" h="21600">
                <a:moveTo>
                  <a:pt x="862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98" y="20200"/>
                </a:lnTo>
                <a:close/>
              </a:path>
              <a:path fill="lighten" w="862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5027760" y="2284560"/>
            <a:ext cx="358128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 few variables down  the list, point to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nmtot1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 which is labeled </a:t>
            </a:r>
            <a:br>
              <a:rPr sz="2800"/>
            </a:b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MCAT TOTAL 1992-PRESENT, MOST RECEN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C864C-A5A7-48E2-85A3-F5DDAB88F4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3" name="Picture 19" descr="C:\BCT 689\PowerPoint\spss gifs\scatterplot\plot7.gif"/>
          <p:cNvPicPr/>
          <p:nvPr/>
        </p:nvPicPr>
        <p:blipFill>
          <a:blip r:embed="rId1"/>
          <a:stretch/>
        </p:blipFill>
        <p:spPr>
          <a:xfrm>
            <a:off x="611280" y="2192400"/>
            <a:ext cx="4113000" cy="365904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Scatterplots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Selecting Variable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6172200" y="449568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nd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click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AutoShape 12">
            <a:hlinkClick r:id="" action="ppaction://hlinkshowjump?jump=nextslide"/>
          </p:cNvPr>
          <p:cNvSpPr/>
          <p:nvPr/>
        </p:nvSpPr>
        <p:spPr>
          <a:xfrm>
            <a:off x="609480" y="3187800"/>
            <a:ext cx="1371600" cy="241200"/>
          </a:xfrm>
          <a:custGeom>
            <a:avLst/>
            <a:gdLst>
              <a:gd name="textAreaLeft" fmla="*/ 15480 w 1371600"/>
              <a:gd name="textAreaRight" fmla="*/ 1356120 w 1371600"/>
              <a:gd name="textAreaTop" fmla="*/ 15480 h 241200"/>
              <a:gd name="textAreaBottom" fmla="*/ 225720 h 241200"/>
            </a:gdLst>
            <a:ahLst/>
            <a:rect l="textAreaLeft" t="textAreaTop" r="textAreaRight" b="textAreaBottom"/>
            <a:pathLst>
              <a:path w="122679" h="21600">
                <a:moveTo>
                  <a:pt x="0" y="0"/>
                </a:moveTo>
                <a:lnTo>
                  <a:pt x="122679" y="0"/>
                </a:lnTo>
                <a:lnTo>
                  <a:pt x="122679" y="21600"/>
                </a:lnTo>
                <a:lnTo>
                  <a:pt x="0" y="21600"/>
                </a:lnTo>
                <a:close/>
              </a:path>
              <a:path fill="lightenLess" w="122679" h="21600">
                <a:moveTo>
                  <a:pt x="0" y="0"/>
                </a:moveTo>
                <a:lnTo>
                  <a:pt x="122679" y="0"/>
                </a:lnTo>
                <a:lnTo>
                  <a:pt x="121279" y="1400"/>
                </a:lnTo>
                <a:lnTo>
                  <a:pt x="1400" y="1400"/>
                </a:lnTo>
                <a:close/>
              </a:path>
              <a:path fill="darken" w="122679" h="21600">
                <a:moveTo>
                  <a:pt x="122679" y="0"/>
                </a:moveTo>
                <a:lnTo>
                  <a:pt x="122679" y="21600"/>
                </a:lnTo>
                <a:lnTo>
                  <a:pt x="121279" y="20200"/>
                </a:lnTo>
                <a:lnTo>
                  <a:pt x="121279" y="1400"/>
                </a:lnTo>
                <a:close/>
              </a:path>
              <a:path fill="darkenLess" w="122679" h="21600">
                <a:moveTo>
                  <a:pt x="122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1279" y="20200"/>
                </a:lnTo>
                <a:close/>
              </a:path>
              <a:path fill="lighten" w="122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Text Box 16"/>
          <p:cNvSpPr/>
          <p:nvPr/>
        </p:nvSpPr>
        <p:spPr>
          <a:xfrm>
            <a:off x="5027760" y="2284560"/>
            <a:ext cx="366048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 few variables down  the list, point to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nmtot1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 which is labeled </a:t>
            </a:r>
            <a:br>
              <a:rPr sz="2800"/>
            </a:b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MCAT TOTAL 1992-PRESENT, MOST RECEN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B6A01-B394-492C-ABF0-BB161639F1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0" name="Picture 10" descr="C:\BCT 689\PowerPoint\spss gifs\scatterplot\plot8.gif"/>
          <p:cNvPicPr/>
          <p:nvPr/>
        </p:nvPicPr>
        <p:blipFill>
          <a:blip r:embed="rId1"/>
          <a:stretch/>
        </p:blipFill>
        <p:spPr>
          <a:xfrm>
            <a:off x="611280" y="2192400"/>
            <a:ext cx="4113000" cy="367668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Scatterplots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Selecting Variable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5027760" y="2284560"/>
            <a:ext cx="3429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ove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nmtot1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o the box labeled</a:t>
            </a:r>
            <a:br>
              <a:rPr sz="2800"/>
            </a:b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Z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 Axis: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y clicking the arrow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AutoShape 7">
            <a:hlinkClick r:id="" action="ppaction://hlinkshowjump?jump=nextslide"/>
          </p:cNvPr>
          <p:cNvSpPr/>
          <p:nvPr/>
        </p:nvSpPr>
        <p:spPr>
          <a:xfrm>
            <a:off x="2209680" y="350532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6C847-2FDC-4960-8EB2-E294225CE0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6" name="Picture 11" descr="C:\BCT 689\PowerPoint\spss gifs\scatterplot\plot9.gif"/>
          <p:cNvPicPr/>
          <p:nvPr/>
        </p:nvPicPr>
        <p:blipFill>
          <a:blip r:embed="rId1"/>
          <a:stretch/>
        </p:blipFill>
        <p:spPr>
          <a:xfrm>
            <a:off x="611280" y="2192400"/>
            <a:ext cx="4113000" cy="365904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Scatterplots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Selecting Variable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5027760" y="2284560"/>
            <a:ext cx="3352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croll further down the list and point to the variable </a:t>
            </a:r>
            <a:r>
              <a:rPr b="0" lang="en-US" sz="2200" spc="-1" strike="noStrike">
                <a:solidFill>
                  <a:srgbClr val="ccccff"/>
                </a:solidFill>
                <a:latin typeface="Arial"/>
              </a:rPr>
              <a:t>usmle2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 which is labeled </a:t>
            </a:r>
            <a:r>
              <a:rPr b="0" lang="en-US" sz="2200" spc="-1" strike="noStrike">
                <a:solidFill>
                  <a:srgbClr val="ccccff"/>
                </a:solidFill>
                <a:latin typeface="Arial"/>
              </a:rPr>
              <a:t>USMLE STEP 2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AutoShape 7">
            <a:hlinkClick r:id="" action="ppaction://hlinkshowjump?jump=nextslide"/>
          </p:cNvPr>
          <p:cNvSpPr/>
          <p:nvPr/>
        </p:nvSpPr>
        <p:spPr>
          <a:xfrm>
            <a:off x="1828800" y="2438280"/>
            <a:ext cx="228600" cy="2514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514600"/>
              <a:gd name="textAreaBottom" fmla="*/ 2499840 h 2514600"/>
            </a:gdLst>
            <a:ahLst/>
            <a:rect l="textAreaLeft" t="textAreaTop" r="textAreaRight" b="textAreaBottom"/>
            <a:pathLst>
              <a:path w="21600" h="237260">
                <a:moveTo>
                  <a:pt x="0" y="0"/>
                </a:moveTo>
                <a:lnTo>
                  <a:pt x="21600" y="0"/>
                </a:lnTo>
                <a:lnTo>
                  <a:pt x="21600" y="237260"/>
                </a:lnTo>
                <a:lnTo>
                  <a:pt x="0" y="237260"/>
                </a:lnTo>
                <a:close/>
              </a:path>
              <a:path fill="lightenLess" w="21600" h="23726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260">
                <a:moveTo>
                  <a:pt x="21600" y="0"/>
                </a:moveTo>
                <a:lnTo>
                  <a:pt x="21600" y="237260"/>
                </a:lnTo>
                <a:lnTo>
                  <a:pt x="20200" y="235860"/>
                </a:lnTo>
                <a:lnTo>
                  <a:pt x="20200" y="1400"/>
                </a:lnTo>
                <a:close/>
              </a:path>
              <a:path fill="darkenLess" w="21600" h="237260">
                <a:moveTo>
                  <a:pt x="21600" y="237260"/>
                </a:moveTo>
                <a:lnTo>
                  <a:pt x="0" y="237260"/>
                </a:lnTo>
                <a:lnTo>
                  <a:pt x="1400" y="235860"/>
                </a:lnTo>
                <a:lnTo>
                  <a:pt x="20200" y="235860"/>
                </a:lnTo>
                <a:close/>
              </a:path>
              <a:path fill="lighten" w="21600" h="237260">
                <a:moveTo>
                  <a:pt x="0" y="23726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86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8E1A8-8CCE-4913-AF7B-81EDB18074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2" name="Picture 11" descr="C:\BCT 689\PowerPoint\spss gifs\scatterplot\plot10.gif"/>
          <p:cNvPicPr/>
          <p:nvPr/>
        </p:nvPicPr>
        <p:blipFill>
          <a:blip r:embed="rId1"/>
          <a:stretch/>
        </p:blipFill>
        <p:spPr>
          <a:xfrm>
            <a:off x="611280" y="2192400"/>
            <a:ext cx="4113000" cy="36590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Scatterplots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Selecting Variable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54" name="AutoShape 8">
            <a:hlinkClick r:id="" action="ppaction://hlinkshowjump?jump=nextslide"/>
          </p:cNvPr>
          <p:cNvSpPr/>
          <p:nvPr/>
        </p:nvSpPr>
        <p:spPr>
          <a:xfrm>
            <a:off x="685800" y="3657600"/>
            <a:ext cx="1905120" cy="228600"/>
          </a:xfrm>
          <a:custGeom>
            <a:avLst/>
            <a:gdLst>
              <a:gd name="textAreaLeft" fmla="*/ 14760 w 1905120"/>
              <a:gd name="textAreaRight" fmla="*/ 1890360 w 19051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79762" h="21600">
                <a:moveTo>
                  <a:pt x="0" y="0"/>
                </a:moveTo>
                <a:lnTo>
                  <a:pt x="179762" y="0"/>
                </a:lnTo>
                <a:lnTo>
                  <a:pt x="179762" y="21600"/>
                </a:lnTo>
                <a:lnTo>
                  <a:pt x="0" y="21600"/>
                </a:lnTo>
                <a:close/>
              </a:path>
              <a:path fill="lightenLess" w="179762" h="21600">
                <a:moveTo>
                  <a:pt x="0" y="0"/>
                </a:moveTo>
                <a:lnTo>
                  <a:pt x="179762" y="0"/>
                </a:lnTo>
                <a:lnTo>
                  <a:pt x="178362" y="1400"/>
                </a:lnTo>
                <a:lnTo>
                  <a:pt x="1400" y="1400"/>
                </a:lnTo>
                <a:close/>
              </a:path>
              <a:path fill="darken" w="179762" h="21600">
                <a:moveTo>
                  <a:pt x="179762" y="0"/>
                </a:moveTo>
                <a:lnTo>
                  <a:pt x="179762" y="21600"/>
                </a:lnTo>
                <a:lnTo>
                  <a:pt x="178362" y="20200"/>
                </a:lnTo>
                <a:lnTo>
                  <a:pt x="178362" y="1400"/>
                </a:lnTo>
                <a:close/>
              </a:path>
              <a:path fill="darkenLess" w="179762" h="21600">
                <a:moveTo>
                  <a:pt x="179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8362" y="20200"/>
                </a:lnTo>
                <a:close/>
              </a:path>
              <a:path fill="lighten" w="179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5027760" y="2284560"/>
            <a:ext cx="3352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croll further down the list and point to the variable </a:t>
            </a:r>
            <a:r>
              <a:rPr b="0" lang="en-US" sz="2200" spc="-1" strike="noStrike">
                <a:solidFill>
                  <a:srgbClr val="ccccff"/>
                </a:solidFill>
                <a:latin typeface="Arial"/>
              </a:rPr>
              <a:t>usmle2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 which is labeled </a:t>
            </a:r>
            <a:r>
              <a:rPr b="0" lang="en-US" sz="2200" spc="-1" strike="noStrike">
                <a:solidFill>
                  <a:srgbClr val="ccccff"/>
                </a:solidFill>
                <a:latin typeface="Arial"/>
              </a:rPr>
              <a:t>USMLE STEP 2 TOTAL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159EB-C802-4CFE-BB03-E738D905ED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8" name="Picture 7" descr="C:\BCT 689\PowerPoint\spss gifs\scatterplot\plot11.gif"/>
          <p:cNvPicPr/>
          <p:nvPr/>
        </p:nvPicPr>
        <p:blipFill>
          <a:blip r:embed="rId1"/>
          <a:stretch/>
        </p:blipFill>
        <p:spPr>
          <a:xfrm>
            <a:off x="611280" y="2192400"/>
            <a:ext cx="4113000" cy="36576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Scatterplots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Selecting Variable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6019920" y="49068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nd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click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AutoShape 5">
            <a:hlinkClick r:id="" action="ppaction://hlinkshowjump?jump=nextslide"/>
          </p:cNvPr>
          <p:cNvSpPr/>
          <p:nvPr/>
        </p:nvSpPr>
        <p:spPr>
          <a:xfrm>
            <a:off x="685800" y="3657600"/>
            <a:ext cx="1905120" cy="228600"/>
          </a:xfrm>
          <a:custGeom>
            <a:avLst/>
            <a:gdLst>
              <a:gd name="textAreaLeft" fmla="*/ 14760 w 1905120"/>
              <a:gd name="textAreaRight" fmla="*/ 1890360 w 19051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79762" h="21600">
                <a:moveTo>
                  <a:pt x="0" y="0"/>
                </a:moveTo>
                <a:lnTo>
                  <a:pt x="179762" y="0"/>
                </a:lnTo>
                <a:lnTo>
                  <a:pt x="179762" y="21600"/>
                </a:lnTo>
                <a:lnTo>
                  <a:pt x="0" y="21600"/>
                </a:lnTo>
                <a:close/>
              </a:path>
              <a:path fill="lightenLess" w="179762" h="21600">
                <a:moveTo>
                  <a:pt x="0" y="0"/>
                </a:moveTo>
                <a:lnTo>
                  <a:pt x="179762" y="0"/>
                </a:lnTo>
                <a:lnTo>
                  <a:pt x="178362" y="1400"/>
                </a:lnTo>
                <a:lnTo>
                  <a:pt x="1400" y="1400"/>
                </a:lnTo>
                <a:close/>
              </a:path>
              <a:path fill="darken" w="179762" h="21600">
                <a:moveTo>
                  <a:pt x="179762" y="0"/>
                </a:moveTo>
                <a:lnTo>
                  <a:pt x="179762" y="21600"/>
                </a:lnTo>
                <a:lnTo>
                  <a:pt x="178362" y="20200"/>
                </a:lnTo>
                <a:lnTo>
                  <a:pt x="178362" y="1400"/>
                </a:lnTo>
                <a:close/>
              </a:path>
              <a:path fill="darkenLess" w="179762" h="21600">
                <a:moveTo>
                  <a:pt x="179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8362" y="20200"/>
                </a:lnTo>
                <a:close/>
              </a:path>
              <a:path fill="lighten" w="179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5027760" y="2284560"/>
            <a:ext cx="3352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croll further down the list and point to the variable </a:t>
            </a:r>
            <a:r>
              <a:rPr b="0" lang="en-US" sz="2200" spc="-1" strike="noStrike">
                <a:solidFill>
                  <a:srgbClr val="ccccff"/>
                </a:solidFill>
                <a:latin typeface="Arial"/>
              </a:rPr>
              <a:t>usmle2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 which is labeled </a:t>
            </a:r>
            <a:r>
              <a:rPr b="0" lang="en-US" sz="2200" spc="-1" strike="noStrike">
                <a:solidFill>
                  <a:srgbClr val="ccccff"/>
                </a:solidFill>
                <a:latin typeface="Arial"/>
              </a:rPr>
              <a:t>USMLE STEP 2 TOTAL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51477-256E-4920-967F-7AFDCBD921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5" name="Picture 11" descr="C:\BCT 689\PowerPoint\spss gifs\scatterplot\plot12.gif"/>
          <p:cNvPicPr/>
          <p:nvPr/>
        </p:nvPicPr>
        <p:blipFill>
          <a:blip r:embed="rId1"/>
          <a:stretch/>
        </p:blipFill>
        <p:spPr>
          <a:xfrm>
            <a:off x="611280" y="2192400"/>
            <a:ext cx="4113000" cy="364968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Scatterplots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Selecting Variable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67" name="AutoShape 7">
            <a:hlinkClick r:id="" action="ppaction://hlinkshowjump?jump=nextslide"/>
          </p:cNvPr>
          <p:cNvSpPr/>
          <p:nvPr/>
        </p:nvSpPr>
        <p:spPr>
          <a:xfrm>
            <a:off x="2209680" y="259092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5027760" y="2284560"/>
            <a:ext cx="3429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ove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usmle2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to the box labeled</a:t>
            </a:r>
            <a:br>
              <a:rPr sz="2800"/>
            </a:b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Y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 Axis: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y clicking the arrow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C9067-1974-4531-8437-8890B5394A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00100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Scatterplots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Introduction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59" name="Text Box 40"/>
          <p:cNvSpPr/>
          <p:nvPr/>
        </p:nvSpPr>
        <p:spPr>
          <a:xfrm>
            <a:off x="914400" y="2419200"/>
            <a:ext cx="7620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A scatterplot may help you to understand how well linear regression  fits your data. You may find that a quadratic equation would be more appropriate than a linear one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Text Box 42"/>
          <p:cNvSpPr/>
          <p:nvPr/>
        </p:nvSpPr>
        <p:spPr>
          <a:xfrm>
            <a:off x="7951680" y="5943600"/>
            <a:ext cx="60984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AutoShape 43">
            <a:hlinkClick r:id="" action="ppaction://hlinkshowjump?jump=nextslide"/>
          </p:cNvPr>
          <p:cNvSpPr/>
          <p:nvPr/>
        </p:nvSpPr>
        <p:spPr>
          <a:xfrm>
            <a:off x="7924680" y="58672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53E05-2672-424B-BCC5-47B2FFD674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1" name="Picture 11" descr="C:\BCT 689\PowerPoint\spss gifs\scatterplot\plot13.gif"/>
          <p:cNvPicPr/>
          <p:nvPr/>
        </p:nvPicPr>
        <p:blipFill>
          <a:blip r:embed="rId1"/>
          <a:stretch/>
        </p:blipFill>
        <p:spPr>
          <a:xfrm>
            <a:off x="611280" y="2192400"/>
            <a:ext cx="4113000" cy="365904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Scatterplots: </a:t>
            </a:r>
            <a:br>
              <a:rPr sz="2000"/>
            </a:b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Selecting Variable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5027760" y="2284560"/>
            <a:ext cx="373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ick the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OK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utton to produce the scatterplot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AutoShape 7"/>
          <p:cNvSpPr/>
          <p:nvPr/>
        </p:nvSpPr>
        <p:spPr>
          <a:xfrm>
            <a:off x="4114800" y="24382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E00EA-9549-4900-9A36-42C0B9EF89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00100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Scatterplots 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Introduction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65" name="AutoShape 3">
            <a:hlinkClick r:id="" action="ppaction://hlinkshowjump?jump=nextslide"/>
          </p:cNvPr>
          <p:cNvSpPr/>
          <p:nvPr/>
        </p:nvSpPr>
        <p:spPr>
          <a:xfrm>
            <a:off x="4800600" y="27432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609480" y="2357280"/>
            <a:ext cx="82296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Variabl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89040" indent="-228600"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otcum: Undergraduate GPA (Total Cumulative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89040" indent="-228600"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mtot1: MCAT Total 1992-present, most recen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89040" indent="-228600"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smle2: USMLE Step 2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7951680" y="5943600"/>
            <a:ext cx="60984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AutoShape 7">
            <a:hlinkClick r:id="" action="ppaction://hlinkshowjump?jump=nextslide"/>
          </p:cNvPr>
          <p:cNvSpPr/>
          <p:nvPr/>
        </p:nvSpPr>
        <p:spPr>
          <a:xfrm>
            <a:off x="7924680" y="59436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E0F5D-4B51-4681-BD57-4142BB5105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71" name="Picture 7" descr="C:\BCT 689\PowerPoint\spss gifs\scatterplot\menu1.gif"/>
          <p:cNvPicPr/>
          <p:nvPr/>
        </p:nvPicPr>
        <p:blipFill>
          <a:blip r:embed="rId1"/>
          <a:stretch/>
        </p:blipFill>
        <p:spPr>
          <a:xfrm>
            <a:off x="4572000" y="2284560"/>
            <a:ext cx="2558880" cy="19112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00100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Scatterplots 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Starting the Procedure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838080" y="2741760"/>
            <a:ext cx="350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174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 the menu, click</a:t>
            </a:r>
            <a:br>
              <a:rPr sz="2800"/>
            </a:b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</a:rPr>
              <a:t>G</a:t>
            </a: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raph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AutoShape 4">
            <a:hlinkClick r:id="" action="ppaction://hlinkshowjump?jump=nextslide"/>
          </p:cNvPr>
          <p:cNvSpPr/>
          <p:nvPr/>
        </p:nvSpPr>
        <p:spPr>
          <a:xfrm>
            <a:off x="5181480" y="2286000"/>
            <a:ext cx="762120" cy="304920"/>
          </a:xfrm>
          <a:custGeom>
            <a:avLst/>
            <a:gdLst>
              <a:gd name="textAreaLeft" fmla="*/ 19440 w 762120"/>
              <a:gd name="textAreaRight" fmla="*/ 742680 w 7621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3949" h="21600">
                <a:moveTo>
                  <a:pt x="0" y="0"/>
                </a:moveTo>
                <a:lnTo>
                  <a:pt x="53949" y="0"/>
                </a:lnTo>
                <a:lnTo>
                  <a:pt x="53949" y="21600"/>
                </a:lnTo>
                <a:lnTo>
                  <a:pt x="0" y="21600"/>
                </a:lnTo>
                <a:close/>
              </a:path>
              <a:path fill="lightenLess" w="53949" h="21600">
                <a:moveTo>
                  <a:pt x="0" y="0"/>
                </a:moveTo>
                <a:lnTo>
                  <a:pt x="53949" y="0"/>
                </a:lnTo>
                <a:lnTo>
                  <a:pt x="52549" y="1400"/>
                </a:lnTo>
                <a:lnTo>
                  <a:pt x="1400" y="1400"/>
                </a:lnTo>
                <a:close/>
              </a:path>
              <a:path fill="darken" w="53949" h="21600">
                <a:moveTo>
                  <a:pt x="53949" y="0"/>
                </a:moveTo>
                <a:lnTo>
                  <a:pt x="53949" y="21600"/>
                </a:lnTo>
                <a:lnTo>
                  <a:pt x="52549" y="20200"/>
                </a:lnTo>
                <a:lnTo>
                  <a:pt x="52549" y="1400"/>
                </a:lnTo>
                <a:close/>
              </a:path>
              <a:path fill="darkenLess" w="53949" h="21600">
                <a:moveTo>
                  <a:pt x="53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9" y="20200"/>
                </a:lnTo>
                <a:close/>
              </a:path>
              <a:path fill="lighten" w="53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C8F6F-D0F1-477F-96F4-836BFF8988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77" name="Picture 7" descr="C:\BCT 689\PowerPoint\spss gifs\scatterplot\menu2.gif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4572000" y="2286000"/>
            <a:ext cx="2558880" cy="34639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00100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Scatterplots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Starting the Procedure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762120" y="2741760"/>
            <a:ext cx="35049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174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 the menu, click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</a:rPr>
              <a:t>G</a:t>
            </a: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raph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33280" indent="-233280">
              <a:spcBef>
                <a:spcPts val="174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oint to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catter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AutoShape 8">
            <a:hlinkClick r:id="" action="ppaction://hlinkshowjump?jump=nextslide"/>
          </p:cNvPr>
          <p:cNvSpPr/>
          <p:nvPr/>
        </p:nvSpPr>
        <p:spPr>
          <a:xfrm>
            <a:off x="5410080" y="5410080"/>
            <a:ext cx="838440" cy="381240"/>
          </a:xfrm>
          <a:custGeom>
            <a:avLst/>
            <a:gdLst>
              <a:gd name="textAreaLeft" fmla="*/ 24480 w 838440"/>
              <a:gd name="textAreaRight" fmla="*/ 813960 w 8384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47479" h="21600">
                <a:moveTo>
                  <a:pt x="0" y="0"/>
                </a:moveTo>
                <a:lnTo>
                  <a:pt x="47479" y="0"/>
                </a:lnTo>
                <a:lnTo>
                  <a:pt x="47479" y="21600"/>
                </a:lnTo>
                <a:lnTo>
                  <a:pt x="0" y="21600"/>
                </a:lnTo>
                <a:close/>
              </a:path>
              <a:path fill="lightenLess" w="47479" h="21600">
                <a:moveTo>
                  <a:pt x="0" y="0"/>
                </a:moveTo>
                <a:lnTo>
                  <a:pt x="47479" y="0"/>
                </a:lnTo>
                <a:lnTo>
                  <a:pt x="46079" y="1400"/>
                </a:lnTo>
                <a:lnTo>
                  <a:pt x="1400" y="1400"/>
                </a:lnTo>
                <a:close/>
              </a:path>
              <a:path fill="darken" w="47479" h="21600">
                <a:moveTo>
                  <a:pt x="47479" y="0"/>
                </a:moveTo>
                <a:lnTo>
                  <a:pt x="47479" y="21600"/>
                </a:lnTo>
                <a:lnTo>
                  <a:pt x="46079" y="20200"/>
                </a:lnTo>
                <a:lnTo>
                  <a:pt x="46079" y="1400"/>
                </a:lnTo>
                <a:close/>
              </a:path>
              <a:path fill="darkenLess" w="47479" h="21600">
                <a:moveTo>
                  <a:pt x="474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79" y="20200"/>
                </a:lnTo>
                <a:close/>
              </a:path>
              <a:path fill="lighten" w="474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26BA3-2DFF-4F5E-9255-CF28D15463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3" name="Picture 7" descr="C:\BCT 689\PowerPoint\spss gifs\scatterplot\menu3.gif"/>
          <p:cNvPicPr/>
          <p:nvPr/>
        </p:nvPicPr>
        <p:blipFill>
          <a:blip r:embed="rId1"/>
          <a:srcRect l="0" t="0" r="3514" b="0"/>
          <a:stretch/>
        </p:blipFill>
        <p:spPr>
          <a:xfrm>
            <a:off x="4572000" y="2284560"/>
            <a:ext cx="2558880" cy="35272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00100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Scatterplots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Starting the Procedure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762120" y="2741760"/>
            <a:ext cx="35049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174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 the menu, click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</a:rPr>
              <a:t>G</a:t>
            </a: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raph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33280" indent="-233280">
              <a:spcBef>
                <a:spcPts val="174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oint to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catter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AutoShape 4">
            <a:hlinkClick r:id="" action="ppaction://hlinkshowjump?jump=nextslide"/>
          </p:cNvPr>
          <p:cNvSpPr/>
          <p:nvPr/>
        </p:nvSpPr>
        <p:spPr>
          <a:xfrm>
            <a:off x="5257800" y="5562720"/>
            <a:ext cx="1447920" cy="228600"/>
          </a:xfrm>
          <a:custGeom>
            <a:avLst/>
            <a:gdLst>
              <a:gd name="textAreaLeft" fmla="*/ 14760 w 1447920"/>
              <a:gd name="textAreaRight" fmla="*/ 1433160 w 1447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36630" h="21600">
                <a:moveTo>
                  <a:pt x="0" y="0"/>
                </a:moveTo>
                <a:lnTo>
                  <a:pt x="136630" y="0"/>
                </a:lnTo>
                <a:lnTo>
                  <a:pt x="136630" y="21600"/>
                </a:lnTo>
                <a:lnTo>
                  <a:pt x="0" y="21600"/>
                </a:lnTo>
                <a:close/>
              </a:path>
              <a:path fill="lightenLess" w="136630" h="21600">
                <a:moveTo>
                  <a:pt x="0" y="0"/>
                </a:moveTo>
                <a:lnTo>
                  <a:pt x="136630" y="0"/>
                </a:lnTo>
                <a:lnTo>
                  <a:pt x="135230" y="1400"/>
                </a:lnTo>
                <a:lnTo>
                  <a:pt x="1400" y="1400"/>
                </a:lnTo>
                <a:close/>
              </a:path>
              <a:path fill="darken" w="136630" h="21600">
                <a:moveTo>
                  <a:pt x="136630" y="0"/>
                </a:moveTo>
                <a:lnTo>
                  <a:pt x="136630" y="21600"/>
                </a:lnTo>
                <a:lnTo>
                  <a:pt x="135230" y="20200"/>
                </a:lnTo>
                <a:lnTo>
                  <a:pt x="135230" y="1400"/>
                </a:lnTo>
                <a:close/>
              </a:path>
              <a:path fill="darkenLess" w="136630" h="21600">
                <a:moveTo>
                  <a:pt x="1366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5230" y="20200"/>
                </a:lnTo>
                <a:close/>
              </a:path>
              <a:path fill="lighten" w="1366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600200" y="452592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nd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click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9175E-0EE1-441D-9148-E8FF39358B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0" name="Picture 8" descr="C:\BCT 689\PowerPoint\spss gifs\scatterplot\plot1.gif"/>
          <p:cNvPicPr/>
          <p:nvPr/>
        </p:nvPicPr>
        <p:blipFill>
          <a:blip r:embed="rId1"/>
          <a:stretch/>
        </p:blipFill>
        <p:spPr>
          <a:xfrm>
            <a:off x="730080" y="2741760"/>
            <a:ext cx="3162600" cy="15523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Scatterplots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Selecting the Type of Scatterplot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4572000" y="2286000"/>
            <a:ext cx="4038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is tutorial demonstrates a plot of 3 continuous variables, so first click the button for </a:t>
            </a: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3-D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AutoShape 6">
            <a:hlinkClick r:id="" action="ppaction://hlinkshowjump?jump=nextslide"/>
          </p:cNvPr>
          <p:cNvSpPr/>
          <p:nvPr/>
        </p:nvSpPr>
        <p:spPr>
          <a:xfrm>
            <a:off x="1955880" y="36576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13FC9-C9AC-4EDC-839B-F0162DAD55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6" name="Picture 6" descr="C:\BCT 689\PowerPoint\spss gifs\scatterplot\plot2.gif"/>
          <p:cNvPicPr/>
          <p:nvPr/>
        </p:nvPicPr>
        <p:blipFill>
          <a:blip r:embed="rId1"/>
          <a:stretch/>
        </p:blipFill>
        <p:spPr>
          <a:xfrm>
            <a:off x="730080" y="2741760"/>
            <a:ext cx="3162600" cy="15523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Scatterplots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Selecting the Type of Scatterplot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98" name="AutoShape 4">
            <a:hlinkClick r:id="" action="ppaction://hlinkshowjump?jump=nextslide"/>
          </p:cNvPr>
          <p:cNvSpPr/>
          <p:nvPr/>
        </p:nvSpPr>
        <p:spPr>
          <a:xfrm>
            <a:off x="3048120" y="3048120"/>
            <a:ext cx="761760" cy="304560"/>
          </a:xfrm>
          <a:custGeom>
            <a:avLst/>
            <a:gdLst>
              <a:gd name="textAreaLeft" fmla="*/ 19440 w 761760"/>
              <a:gd name="textAreaRight" fmla="*/ 742320 w 7617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53987" h="21600">
                <a:moveTo>
                  <a:pt x="0" y="0"/>
                </a:moveTo>
                <a:lnTo>
                  <a:pt x="53987" y="0"/>
                </a:lnTo>
                <a:lnTo>
                  <a:pt x="53987" y="21600"/>
                </a:lnTo>
                <a:lnTo>
                  <a:pt x="0" y="21600"/>
                </a:lnTo>
                <a:close/>
              </a:path>
              <a:path fill="lightenLess" w="53987" h="21600">
                <a:moveTo>
                  <a:pt x="0" y="0"/>
                </a:moveTo>
                <a:lnTo>
                  <a:pt x="53987" y="0"/>
                </a:lnTo>
                <a:lnTo>
                  <a:pt x="52587" y="1400"/>
                </a:lnTo>
                <a:lnTo>
                  <a:pt x="1400" y="1400"/>
                </a:lnTo>
                <a:close/>
              </a:path>
              <a:path fill="darken" w="53987" h="21600">
                <a:moveTo>
                  <a:pt x="53987" y="0"/>
                </a:moveTo>
                <a:lnTo>
                  <a:pt x="53987" y="21600"/>
                </a:lnTo>
                <a:lnTo>
                  <a:pt x="52587" y="20200"/>
                </a:lnTo>
                <a:lnTo>
                  <a:pt x="52587" y="1400"/>
                </a:lnTo>
                <a:close/>
              </a:path>
              <a:path fill="darkenLess" w="53987" h="21600">
                <a:moveTo>
                  <a:pt x="539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87" y="20200"/>
                </a:lnTo>
                <a:close/>
              </a:path>
              <a:path fill="lighten" w="539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4572000" y="2286000"/>
            <a:ext cx="41911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is tutorial demonstrates a plot of 3 continuous variables, so first click the button for </a:t>
            </a: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3-D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n click the </a:t>
            </a: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Defin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butto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46C11-BA85-4FE5-89D6-94B2DA84EB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2" name="Picture 18" descr="C:\BCT 689\PowerPoint\spss gifs\scatterplot\plot3.gif"/>
          <p:cNvPicPr/>
          <p:nvPr/>
        </p:nvPicPr>
        <p:blipFill>
          <a:blip r:embed="rId1"/>
          <a:stretch/>
        </p:blipFill>
        <p:spPr>
          <a:xfrm>
            <a:off x="611280" y="2192400"/>
            <a:ext cx="4113000" cy="37162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Scatterplots: </a:t>
            </a:r>
            <a:br>
              <a:rPr sz="4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Selecting Variable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04" name="AutoShape 7">
            <a:hlinkClick r:id="" action="ppaction://hlinkshowjump?jump=nextslide"/>
          </p:cNvPr>
          <p:cNvSpPr/>
          <p:nvPr/>
        </p:nvSpPr>
        <p:spPr>
          <a:xfrm>
            <a:off x="1828800" y="2514600"/>
            <a:ext cx="228600" cy="243828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438280"/>
              <a:gd name="textAreaBottom" fmla="*/ 2423520 h 2438280"/>
            </a:gdLst>
            <a:ahLst/>
            <a:rect l="textAreaLeft" t="textAreaTop" r="textAreaRight" b="textAreaBottom"/>
            <a:pathLst>
              <a:path w="21600" h="230060">
                <a:moveTo>
                  <a:pt x="0" y="0"/>
                </a:moveTo>
                <a:lnTo>
                  <a:pt x="21600" y="0"/>
                </a:lnTo>
                <a:lnTo>
                  <a:pt x="21600" y="230060"/>
                </a:lnTo>
                <a:lnTo>
                  <a:pt x="0" y="230060"/>
                </a:lnTo>
                <a:close/>
              </a:path>
              <a:path fill="lightenLess" w="21600" h="23006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060">
                <a:moveTo>
                  <a:pt x="21600" y="0"/>
                </a:moveTo>
                <a:lnTo>
                  <a:pt x="21600" y="230060"/>
                </a:lnTo>
                <a:lnTo>
                  <a:pt x="20200" y="228660"/>
                </a:lnTo>
                <a:lnTo>
                  <a:pt x="20200" y="1400"/>
                </a:lnTo>
                <a:close/>
              </a:path>
              <a:path fill="darkenLess" w="21600" h="230060">
                <a:moveTo>
                  <a:pt x="21600" y="230060"/>
                </a:moveTo>
                <a:lnTo>
                  <a:pt x="0" y="230060"/>
                </a:lnTo>
                <a:lnTo>
                  <a:pt x="1400" y="228660"/>
                </a:lnTo>
                <a:lnTo>
                  <a:pt x="20200" y="228660"/>
                </a:lnTo>
                <a:close/>
              </a:path>
              <a:path fill="lighten" w="21600" h="230060">
                <a:moveTo>
                  <a:pt x="0" y="230060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66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5027760" y="2284560"/>
            <a:ext cx="352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croll down the variable list,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9T00:33:49Z</dcterms:created>
  <dc:creator>Julia Hartman</dc:creator>
  <dc:description/>
  <cp:keywords>SPSS scatterplot</cp:keywords>
  <dc:language>en-US</dc:language>
  <cp:lastModifiedBy>Windows User</cp:lastModifiedBy>
  <dcterms:modified xsi:type="dcterms:W3CDTF">2011-12-05T18:44:12Z</dcterms:modified>
  <cp:revision>166</cp:revision>
  <dc:subject>Scatterplots</dc:subject>
  <dc:title>SPSS Scatterplot Tutorial</dc:title>
</cp:coreProperties>
</file>